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3.jpeg" ContentType="image/jpeg"/>
  <Override PartName="/ppt/media/image11.jpeg" ContentType="image/jpeg"/>
  <Override PartName="/ppt/media/image24.png" ContentType="image/png"/>
  <Override PartName="/ppt/media/image2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3D82-6CCE-449C-9095-F41A721A7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1464-6784-49E6-A000-231303FCB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24EB-15DC-4372-88AA-124EC930D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376F-8BD5-424C-9010-6DC280C18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E6EB-6832-4D1D-B0DB-1DD8E1427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86DE-C73B-4393-974D-DECFF406F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7400-15C8-414D-B476-981C1D8C5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9727-5F91-4FEB-886B-1C73E0831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462C-0435-4FF3-B403-E331AACEE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infants will focus on their own body but eventually will include objects around them in their p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ust of the first year, infant behaviors are mostly spontaneous and unplanned (ex.  putting fingers in mouth, blowing bubbles, co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in year one, infants learn “cause-effect” relationshi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CDCC-1627-4F35-8FF9-B89513158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460-5496-4CCB-95AA-E2E746DF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967-7DD9-43B2-9CFA-38375A4D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384E-C350-4B3C-BC17-2E17E5FE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3A6-4E73-4126-8B43-98C8941B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E88B-13CA-441A-B7E0-38ABB8C5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CA79-B4CF-4054-8AD1-41E8CFB4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8B9E-2AF9-40F5-B7E3-EB5EF96F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F067-5C54-42CE-9D86-194A02E7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4BAC-72A3-4486-AE61-13529065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950E-274D-4879-ACE5-6F1A325B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553C-5108-4BFD-9972-D6D3DCF7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21F-5BD6-4759-A6E2-F5E3C57D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B575-7262-472A-8248-ABC86B48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39BE-DE42-41CB-AF87-C2F7CC2C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8159-926E-433F-BC25-97EB3363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0673-5486-4F6B-A248-43892B7A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4E0E-8ABD-4A79-9D39-C0B8CD3F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C1239-D9B8-4855-9570-8251A42D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2BC53-2C9A-45E3-B1A4-AE70C82E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C45FD-8304-4A4E-8779-871E57C0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62BEA-1D87-4AD1-8BE0-58F50EA6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022BD-70AF-40A3-AD32-E2FC9AA8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D33-DD43-4E0A-A6DC-5DA185F1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67DDC-D0F2-4ABF-9C80-7D0E72FC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F8563-8575-4234-91CE-9E950C89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D619C-F35C-45C0-836E-0CBFE552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AAE3E-85C3-441D-BAB6-DF37E951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8D043-01C3-4219-8067-62963AE4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4BAD6-FB42-4FDF-995D-BA75213A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6D7C-7EAA-4D6C-9133-560A87B9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31DFF-BBFA-40E1-9812-D7A30C37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92C26-C939-4FB3-809E-E0BB50C7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AE924-54AF-43B8-8559-6CC23EB5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FB4-D34E-49E3-9502-24281DD3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0BA1C-3956-4345-9E71-62704DBE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196E5-93E0-4F54-9CBF-2EA40AC3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95F1E-D8F1-443E-9A3A-6D7C9F24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B760C-62C1-4D35-B0A4-33351D50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851D4-709D-413F-BC27-50373D40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48DE6-2D53-4A80-B87D-08A60667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3138E-2D48-4E70-9D32-47B9CDFE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9B792-641E-474E-A87C-A4F20F2F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60CEB-E234-4EE2-B0DB-09A62E39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240-98E2-4D17-83A1-86517298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46F-281F-4433-9951-EEC90AD4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20A-5155-453C-BB0B-2A402A7C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A33-57CB-4B35-9AB4-D368AA1D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7BBF-9B79-46B8-956B-09476857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f2f2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0080-16B0-4333-942D-098C81E7B21E}" type="slidenum">
              <a:rPr b="0" lang="en-US" sz="1200" spc="-1" strike="noStrike">
                <a:solidFill>
                  <a:srgbClr val="2f2f2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d4c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D365-D7AD-4C23-A601-50CD60C8DEB3}" type="slidenum">
              <a:rPr b="0" lang="en-US" sz="1200" spc="-1" strike="noStrike">
                <a:solidFill>
                  <a:srgbClr val="d9d4c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d4c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0ECB-746C-4F43-A76B-2A424F27DB20}" type="slidenum">
              <a:rPr b="0" lang="en-US" sz="1200" spc="-1" strike="noStrike">
                <a:solidFill>
                  <a:srgbClr val="d9d4c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f2f2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4EB2-1D0C-4B70-9F8A-178EC9FEB8CF}" type="slidenum">
              <a:rPr b="0" lang="en-US" sz="1200" spc="-1" strike="noStrike">
                <a:solidFill>
                  <a:srgbClr val="2f2f2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5"/>
          <p:cNvSpPr txBox="1"/>
          <p:nvPr/>
        </p:nvSpPr>
        <p:spPr>
          <a:xfrm>
            <a:off x="838080" y="1676520"/>
            <a:ext cx="73915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PIAGET'S THEOR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OF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COGNITIVE  DEVELOPMEN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2514600" y="5791320"/>
            <a:ext cx="4343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by Michael Morre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762120" y="1066680"/>
            <a:ext cx="7772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ensorimotor  Substages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914400" y="228600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* Tertiary Circular Reactions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3095640" cy="2324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rcRect l="8881" t="17144" r="0" b="4144"/>
          <a:stretch/>
        </p:blipFill>
        <p:spPr>
          <a:xfrm>
            <a:off x="5181480" y="3352680"/>
            <a:ext cx="2381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762120" y="1066680"/>
            <a:ext cx="7772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ensorimotor  Substages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36" name="WordArt 4"/>
          <p:cNvSpPr txBox="1"/>
          <p:nvPr/>
        </p:nvSpPr>
        <p:spPr>
          <a:xfrm>
            <a:off x="990720" y="2209680"/>
            <a:ext cx="7086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* Beginning of Though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3809880" cy="2810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5334120" y="33526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4"/>
          <p:cNvSpPr txBox="1"/>
          <p:nvPr/>
        </p:nvSpPr>
        <p:spPr>
          <a:xfrm>
            <a:off x="914400" y="1219320"/>
            <a:ext cx="7162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ensorimotor Stag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(birth until age 2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40" name="Picture 5" descr="http://www.offthemarkcartoons.com/cartoons/2004-04-28.gif"/>
          <p:cNvPicPr/>
          <p:nvPr/>
        </p:nvPicPr>
        <p:blipFill>
          <a:blip r:embed="rId2"/>
          <a:srcRect l="0" t="0" r="0" b="14291"/>
          <a:stretch/>
        </p:blipFill>
        <p:spPr>
          <a:xfrm>
            <a:off x="2514600" y="2514600"/>
            <a:ext cx="3200400" cy="3657600"/>
          </a:xfrm>
          <a:prstGeom prst="rect">
            <a:avLst/>
          </a:prstGeom>
          <a:ln w="0">
            <a:noFill/>
          </a:ln>
        </p:spPr>
      </p:pic>
      <p:sp>
        <p:nvSpPr>
          <p:cNvPr id="241" name="Straight Connector 5"/>
          <p:cNvSpPr/>
          <p:nvPr/>
        </p:nvSpPr>
        <p:spPr>
          <a:xfrm>
            <a:off x="2514600" y="617220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1066680" y="990720"/>
            <a:ext cx="7239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Pre-Operations Stage 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(2 – 7 yrs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9480" y="32767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3962520" y="3352680"/>
            <a:ext cx="4572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4"/>
          <p:cNvSpPr txBox="1"/>
          <p:nvPr/>
        </p:nvSpPr>
        <p:spPr>
          <a:xfrm>
            <a:off x="1066680" y="990720"/>
            <a:ext cx="7239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Pre-Operational Stage 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(2 – 7 yrs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46" name="Picture 6" descr="http://3.bp.blogspot.com/_WsE6M_RjBIY/SPWB-YmCeAI/AAAAAAAAMb8/N7Vd3ofNYGg/s400/baby_cartoon_.jpg"/>
          <p:cNvPicPr/>
          <p:nvPr/>
        </p:nvPicPr>
        <p:blipFill>
          <a:blip r:embed="rId2"/>
          <a:stretch/>
        </p:blipFill>
        <p:spPr>
          <a:xfrm>
            <a:off x="3124080" y="2743200"/>
            <a:ext cx="31147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http://forum.urduworld.com/members/meher19-4248/albums/my-album/13513-cartoonkids-1.gif"/>
          <p:cNvPicPr/>
          <p:nvPr/>
        </p:nvPicPr>
        <p:blipFill>
          <a:blip r:embed="rId2"/>
          <a:stretch/>
        </p:blipFill>
        <p:spPr>
          <a:xfrm>
            <a:off x="1066680" y="2438280"/>
            <a:ext cx="7391520" cy="3838680"/>
          </a:xfrm>
          <a:prstGeom prst="rect">
            <a:avLst/>
          </a:prstGeom>
          <a:ln w="0">
            <a:noFill/>
          </a:ln>
        </p:spPr>
      </p:pic>
      <p:sp>
        <p:nvSpPr>
          <p:cNvPr id="248" name="WordArt 4"/>
          <p:cNvSpPr txBox="1"/>
          <p:nvPr/>
        </p:nvSpPr>
        <p:spPr>
          <a:xfrm>
            <a:off x="1066680" y="990720"/>
            <a:ext cx="7239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Concrete Operational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tage  (7 – 12 yrs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4"/>
          <p:cNvSpPr txBox="1"/>
          <p:nvPr/>
        </p:nvSpPr>
        <p:spPr>
          <a:xfrm>
            <a:off x="1066680" y="990720"/>
            <a:ext cx="7239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Concrete Operational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tage  (7 – 12 yrs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50" name="Picture 2" descr="http://www.cartoonstock.com/newscartoons/cartoonists/rma/lowres/rman9445l.jpg"/>
          <p:cNvPicPr/>
          <p:nvPr/>
        </p:nvPicPr>
        <p:blipFill>
          <a:blip r:embed="rId2"/>
          <a:srcRect l="0" t="0" r="3997" b="0"/>
          <a:stretch/>
        </p:blipFill>
        <p:spPr>
          <a:xfrm>
            <a:off x="2666880" y="2819520"/>
            <a:ext cx="3657600" cy="34002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4419720" y="2743200"/>
            <a:ext cx="190476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4"/>
          <p:cNvSpPr txBox="1"/>
          <p:nvPr/>
        </p:nvSpPr>
        <p:spPr>
          <a:xfrm>
            <a:off x="1066680" y="990720"/>
            <a:ext cx="7239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Formal Operational  Stage 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(12 yrs - adulthood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53" name="Picture 2" descr="http://www.brookepsychologists.com/yahoo_site_admin/assets/images/Happy_multiethnic_teens.59220236_std.jpg"/>
          <p:cNvPicPr/>
          <p:nvPr/>
        </p:nvPicPr>
        <p:blipFill>
          <a:blip r:embed="rId2"/>
          <a:stretch/>
        </p:blipFill>
        <p:spPr>
          <a:xfrm>
            <a:off x="304920" y="3352680"/>
            <a:ext cx="3200400" cy="3164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popsci.typepad.com/photos/uncategorized/2007/10/19/mr_six_old_guy_lg.jpg"/>
          <p:cNvPicPr/>
          <p:nvPr/>
        </p:nvPicPr>
        <p:blipFill>
          <a:blip r:embed="rId3"/>
          <a:srcRect l="19898" t="0" r="15457" b="0"/>
          <a:stretch/>
        </p:blipFill>
        <p:spPr>
          <a:xfrm>
            <a:off x="3886200" y="2886120"/>
            <a:ext cx="1981080" cy="3971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http://gawker.com/assets/resources/2008/02/steve-family.jpg"/>
          <p:cNvPicPr/>
          <p:nvPr/>
        </p:nvPicPr>
        <p:blipFill>
          <a:blip r:embed="rId4"/>
          <a:stretch/>
        </p:blipFill>
        <p:spPr>
          <a:xfrm>
            <a:off x="6019920" y="33526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4"/>
          <p:cNvSpPr txBox="1"/>
          <p:nvPr/>
        </p:nvSpPr>
        <p:spPr>
          <a:xfrm>
            <a:off x="1066680" y="990720"/>
            <a:ext cx="7239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Formal Operational  Stage 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(12 yrs - adulthood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57" name="Picture 2" descr="http://www.sph.umich.edu/csg/abecasis/merlin/wizard2.gif"/>
          <p:cNvPicPr/>
          <p:nvPr/>
        </p:nvPicPr>
        <p:blipFill>
          <a:blip r:embed="rId2"/>
          <a:stretch/>
        </p:blipFill>
        <p:spPr>
          <a:xfrm>
            <a:off x="6172200" y="3429000"/>
            <a:ext cx="1952640" cy="2381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http://www.furiousdebate.com/wp-content/themes/inuit-types/images/DebateCartoonSM.jpg"/>
          <p:cNvPicPr/>
          <p:nvPr/>
        </p:nvPicPr>
        <p:blipFill>
          <a:blip r:embed="rId3"/>
          <a:stretch/>
        </p:blipFill>
        <p:spPr>
          <a:xfrm>
            <a:off x="762120" y="3276720"/>
            <a:ext cx="304776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5105520" cy="4724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685800" y="609480"/>
            <a:ext cx="7620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66"/>
                  </a:solidFill>
                  <a:miter/>
                </a:ln>
                <a:solidFill>
                  <a:srgbClr val="00ccff"/>
                </a:solidFill>
                <a:latin typeface="Imprint MT Shadow"/>
              </a:rPr>
              <a:t>Any questions!?</a:t>
            </a:r>
            <a:endParaRPr b="0" lang="en-US" sz="1800" spc="1" strike="noStrike">
              <a:ln w="25560">
                <a:solidFill>
                  <a:srgbClr val="993366"/>
                </a:solidFill>
                <a:miter/>
              </a:ln>
              <a:solidFill>
                <a:srgbClr val="00ccff"/>
              </a:solidFill>
              <a:latin typeface="Imprint MT Shadow"/>
              <a:ea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914400" y="1523880"/>
            <a:ext cx="7391520" cy="3810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EQ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How are Piaget's Stages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of Cognitive Developmen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displayed in children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gary_larson_gifted_comp1.jpg"/>
          <p:cNvPicPr/>
          <p:nvPr/>
        </p:nvPicPr>
        <p:blipFill>
          <a:blip r:embed="rId2"/>
          <a:stretch/>
        </p:blipFill>
        <p:spPr>
          <a:xfrm>
            <a:off x="4876920" y="1219320"/>
            <a:ext cx="3519360" cy="4876560"/>
          </a:xfrm>
          <a:prstGeom prst="rect">
            <a:avLst/>
          </a:prstGeom>
          <a:ln w="0">
            <a:noFill/>
          </a:ln>
        </p:spPr>
      </p:pic>
      <p:sp>
        <p:nvSpPr>
          <p:cNvPr id="206" name="WordArt 5"/>
          <p:cNvSpPr txBox="1"/>
          <p:nvPr/>
        </p:nvSpPr>
        <p:spPr>
          <a:xfrm>
            <a:off x="838080" y="1676520"/>
            <a:ext cx="31244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Not all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children are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“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gifted”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learners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1219320" y="914400"/>
            <a:ext cx="64767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Piaget's Four Stages of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Cognitive Developmen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762120" y="3276720"/>
            <a:ext cx="6476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ensorimotor Stage (birth to age 2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09" name="WordArt 6"/>
          <p:cNvSpPr txBox="1"/>
          <p:nvPr/>
        </p:nvSpPr>
        <p:spPr>
          <a:xfrm>
            <a:off x="1066680" y="4114800"/>
            <a:ext cx="6629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Preoperational Stage (age 2 until age 6 - 7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10" name="WordArt 7"/>
          <p:cNvSpPr txBox="1"/>
          <p:nvPr/>
        </p:nvSpPr>
        <p:spPr>
          <a:xfrm>
            <a:off x="1295280" y="49528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Concrete Operations Stage (age 7 until age 11 - 12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11" name="WordArt 8"/>
          <p:cNvSpPr txBox="1"/>
          <p:nvPr/>
        </p:nvSpPr>
        <p:spPr>
          <a:xfrm>
            <a:off x="1676520" y="5791320"/>
            <a:ext cx="6933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Formal Operations Stage (age 12 through adulthood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838080" y="1066680"/>
            <a:ext cx="72392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ensorimotor Stag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(birth until age 2)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13" name="Picture 8" descr="http://www.encomics.com/wp-content/uploads/HLIC/d0a5d7258bb94ced53fcb74dd73e7071.jpg"/>
          <p:cNvPicPr/>
          <p:nvPr/>
        </p:nvPicPr>
        <p:blipFill>
          <a:blip r:embed="rId2"/>
          <a:stretch/>
        </p:blipFill>
        <p:spPr>
          <a:xfrm>
            <a:off x="1219320" y="3390840"/>
            <a:ext cx="3009960" cy="3467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http://www.imajlar.com/free_clipart/precious_moment_clipart/precious_moment_clipart_baby.gif"/>
          <p:cNvPicPr/>
          <p:nvPr/>
        </p:nvPicPr>
        <p:blipFill>
          <a:blip r:embed="rId3"/>
          <a:stretch/>
        </p:blipFill>
        <p:spPr>
          <a:xfrm>
            <a:off x="5638680" y="3962520"/>
            <a:ext cx="1989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4"/>
          <p:cNvSpPr txBox="1"/>
          <p:nvPr/>
        </p:nvSpPr>
        <p:spPr>
          <a:xfrm>
            <a:off x="762120" y="1066680"/>
            <a:ext cx="7772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ensorimotor  Substages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1143000" y="2362320"/>
            <a:ext cx="5486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* Simple Reflexes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6840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rcRect l="16845" t="31567" r="0" b="0"/>
          <a:stretch/>
        </p:blipFill>
        <p:spPr>
          <a:xfrm>
            <a:off x="5410080" y="3581280"/>
            <a:ext cx="2594160" cy="2847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914400" y="35812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762120" y="1066680"/>
            <a:ext cx="7772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ensorimotor  Substages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19320" y="2133720"/>
            <a:ext cx="6019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* Primary Circular Rea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562720" y="3581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62120" y="3581280"/>
            <a:ext cx="34671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4"/>
          <p:cNvSpPr txBox="1"/>
          <p:nvPr/>
        </p:nvSpPr>
        <p:spPr>
          <a:xfrm>
            <a:off x="762120" y="1066680"/>
            <a:ext cx="7772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ensorimotor  Substages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25" name="WordArt 4"/>
          <p:cNvSpPr txBox="1"/>
          <p:nvPr/>
        </p:nvSpPr>
        <p:spPr>
          <a:xfrm>
            <a:off x="533520" y="2895480"/>
            <a:ext cx="35812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* Secondary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Circular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Reactions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267080" y="2514600"/>
            <a:ext cx="39625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762120" y="1066680"/>
            <a:ext cx="7772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Sensorimotor  Substages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1143000" y="2209680"/>
            <a:ext cx="6477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rint MT Shadow"/>
              </a:rPr>
              <a:t>* Coordination of Reactions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rint MT Shadow"/>
              <a:ea typeface="Imprint MT Shadow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334120" y="3124080"/>
            <a:ext cx="2184120" cy="3276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295280" y="3352680"/>
            <a:ext cx="35816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20:56:20Z</dcterms:created>
  <dc:creator>Tanya Morret</dc:creator>
  <dc:description/>
  <dc:language>en-US</dc:language>
  <cp:lastModifiedBy>mmorret</cp:lastModifiedBy>
  <dcterms:modified xsi:type="dcterms:W3CDTF">2010-11-30T21:45:37Z</dcterms:modified>
  <cp:revision>61</cp:revision>
  <dc:subject/>
  <dc:title>Slide 1</dc:title>
</cp:coreProperties>
</file>